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560-C12F-4F55-9FBA-A96B1276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E9A-BF62-4E61-BD7E-4B891411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34B-2F23-4250-ACC6-E3379743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D30-E2E4-4581-9F39-1C1C8EAB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004E-CF7F-4F0B-BFD3-C60A7A49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5891-1B32-49E9-99FB-5B5D0D3D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7460-646F-4AC7-B0B8-FDF8BA7B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7F78-555D-40B7-84D2-6FA350E4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71A1-F362-4016-9EEB-67FB5F73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7A99-5B90-4A80-A710-BB4C2869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1DC7-D0E1-4D5B-B020-92763794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879-6BFD-4B07-A4C7-FC59894B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7A54-FFC2-4B77-92F5-1DAB231A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F3C5-C33A-424B-8FC1-6182807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643B-4CDF-4E5D-9E77-BC2D9DAC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030A-4E70-4964-9253-D8B3447A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BB09-452F-4AE1-A77C-97FE07C3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EB2-68CF-4F1A-827C-A4F2FF80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6CA-F8F9-4BB9-8D00-96AC7DA9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39F-872E-4696-97B4-00967A74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215-8752-4B1C-B7A4-38D80E73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121-1A21-4A3A-A9C2-BDA7A42E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1A1-CA6D-415A-8AE8-E4BB26B3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526-717F-4B19-9E7D-C80FACA6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21E1-5077-452B-B9A8-655930C6FB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4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0BBC-C234-4B9E-946D-D4E0159EC9A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1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1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5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6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2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8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Box 3"/>
          <p:cNvSpPr/>
          <p:nvPr/>
        </p:nvSpPr>
        <p:spPr>
          <a:xfrm>
            <a:off x="539640" y="2637000"/>
            <a:ext cx="8429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3.15 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环境保护中的数学问题</a:t>
            </a:r>
            <a:endParaRPr b="1" lang="en-US" sz="5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2" name="TextBox 3"/>
          <p:cNvSpPr/>
          <p:nvPr/>
        </p:nvSpPr>
        <p:spPr>
          <a:xfrm>
            <a:off x="650880" y="5698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6"/>
          <p:cNvSpPr/>
          <p:nvPr/>
        </p:nvSpPr>
        <p:spPr>
          <a:xfrm>
            <a:off x="0" y="-270000"/>
            <a:ext cx="1843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76" name="Rectangle 2"/>
          <p:cNvSpPr/>
          <p:nvPr/>
        </p:nvSpPr>
        <p:spPr>
          <a:xfrm>
            <a:off x="928800" y="1357200"/>
            <a:ext cx="7786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表中几个数据的平均数是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77" name="Rectangle 2"/>
          <p:cNvSpPr/>
          <p:nvPr/>
        </p:nvSpPr>
        <p:spPr>
          <a:xfrm>
            <a:off x="642960" y="3429000"/>
            <a:ext cx="8572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毫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方厘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78" name="Rectangle 2"/>
          <p:cNvSpPr/>
          <p:nvPr/>
        </p:nvSpPr>
        <p:spPr>
          <a:xfrm>
            <a:off x="1571760" y="400068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表中几个数据的平均数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1500120" y="2178000"/>
          <a:ext cx="6096240" cy="10368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桉树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千层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橡树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悬铃木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2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714240" y="1000080"/>
            <a:ext cx="7786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假设一片悬铃木叶子的总面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反两面）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厘米，它平均每天要散失多少水分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1" name="Rectangle 2"/>
          <p:cNvSpPr/>
          <p:nvPr/>
        </p:nvSpPr>
        <p:spPr>
          <a:xfrm>
            <a:off x="2857680" y="2786040"/>
            <a:ext cx="414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毫克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5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克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2" name="Rectangle 2"/>
          <p:cNvSpPr/>
          <p:nvPr/>
        </p:nvSpPr>
        <p:spPr>
          <a:xfrm>
            <a:off x="2786040" y="2071800"/>
            <a:ext cx="4786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8×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毫克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3" name="Rectangle 2"/>
          <p:cNvSpPr/>
          <p:nvPr/>
        </p:nvSpPr>
        <p:spPr>
          <a:xfrm>
            <a:off x="2071800" y="3357720"/>
            <a:ext cx="6000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平均每天要散失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5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克水分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2"/>
          <p:cNvSpPr/>
          <p:nvPr/>
        </p:nvSpPr>
        <p:spPr>
          <a:xfrm>
            <a:off x="428760" y="1025640"/>
            <a:ext cx="807228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棵橡树大约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片叶子，平均每片叶子正反两面的总面积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厘米。这棵树通过叶子每天要散失多少水分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5" name="Rectangle 2"/>
          <p:cNvSpPr/>
          <p:nvPr/>
        </p:nvSpPr>
        <p:spPr>
          <a:xfrm>
            <a:off x="1714680" y="2428920"/>
            <a:ext cx="5572080" cy="571320"/>
          </a:xfrm>
          <a:prstGeom prst="rect">
            <a:avLst/>
          </a:prstGeom>
          <a:solidFill>
            <a:srgbClr val="ffff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棵橡树的叶子是多少平方厘米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3143160" y="2928960"/>
            <a:ext cx="3786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0×48×4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7" name="Rectangle 2"/>
          <p:cNvSpPr/>
          <p:nvPr/>
        </p:nvSpPr>
        <p:spPr>
          <a:xfrm>
            <a:off x="928800" y="5072040"/>
            <a:ext cx="7786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这棵树通过叶子每天要散失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838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水分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8" name="Rectangle 2"/>
          <p:cNvSpPr/>
          <p:nvPr/>
        </p:nvSpPr>
        <p:spPr>
          <a:xfrm>
            <a:off x="2786040" y="3429000"/>
            <a:ext cx="3786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5200×4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9" name="Rectangle 2"/>
          <p:cNvSpPr/>
          <p:nvPr/>
        </p:nvSpPr>
        <p:spPr>
          <a:xfrm>
            <a:off x="2786040" y="3929040"/>
            <a:ext cx="3786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384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毫克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90" name="Rectangle 2"/>
          <p:cNvSpPr/>
          <p:nvPr/>
        </p:nvSpPr>
        <p:spPr>
          <a:xfrm>
            <a:off x="1928880" y="4429080"/>
            <a:ext cx="6357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384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毫克）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838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千克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2"/>
          <p:cNvSpPr/>
          <p:nvPr/>
        </p:nvSpPr>
        <p:spPr>
          <a:xfrm>
            <a:off x="500040" y="1214280"/>
            <a:ext cx="82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一杯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计算，上题这棵树的叶子每天散失的水分相当于几杯水？一个人平均每天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杯水（包含食物中摄入的水分），这棵树的叶子每天散失的水分多还是人一天喝的水多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92" name="Rectangle 2"/>
          <p:cNvSpPr/>
          <p:nvPr/>
        </p:nvSpPr>
        <p:spPr>
          <a:xfrm>
            <a:off x="2071800" y="2786040"/>
            <a:ext cx="5429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8384÷0.4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.75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杯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93" name="Rectangle 2"/>
          <p:cNvSpPr/>
          <p:nvPr/>
        </p:nvSpPr>
        <p:spPr>
          <a:xfrm>
            <a:off x="3714840" y="3786120"/>
            <a:ext cx="2857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94" name="Rectangle 2"/>
          <p:cNvSpPr/>
          <p:nvPr/>
        </p:nvSpPr>
        <p:spPr>
          <a:xfrm>
            <a:off x="1285920" y="4286160"/>
            <a:ext cx="6715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这棵树的叶子每天散失的水分多比人一天喝的水多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95" name="Rectangle 2"/>
          <p:cNvSpPr/>
          <p:nvPr/>
        </p:nvSpPr>
        <p:spPr>
          <a:xfrm>
            <a:off x="4214880" y="3286080"/>
            <a:ext cx="234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杯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矩形 4"/>
          <p:cNvSpPr/>
          <p:nvPr/>
        </p:nvSpPr>
        <p:spPr>
          <a:xfrm>
            <a:off x="684360" y="1071720"/>
            <a:ext cx="78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我国，水土流失是一个严重的问题，它主要由砍伐树木导致的。每年大约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0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亿吨表土被冲刷到黄河里。平均每天有多少吨表土被冲刷到黄河里？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算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97" name="Rectangle 2"/>
          <p:cNvSpPr/>
          <p:nvPr/>
        </p:nvSpPr>
        <p:spPr>
          <a:xfrm>
            <a:off x="2143080" y="4071960"/>
            <a:ext cx="535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平均每天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84931.50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吨表土被冲刷到黄河里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98" name="Rectangle 2"/>
          <p:cNvSpPr/>
          <p:nvPr/>
        </p:nvSpPr>
        <p:spPr>
          <a:xfrm>
            <a:off x="2500200" y="2928960"/>
            <a:ext cx="464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.0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亿吨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700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吨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99" name="Rectangle 2"/>
          <p:cNvSpPr/>
          <p:nvPr/>
        </p:nvSpPr>
        <p:spPr>
          <a:xfrm>
            <a:off x="2000160" y="3429000"/>
            <a:ext cx="6357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7000000÷36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84931.50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吨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2"/>
          <p:cNvSpPr/>
          <p:nvPr/>
        </p:nvSpPr>
        <p:spPr>
          <a:xfrm>
            <a:off x="1285920" y="928800"/>
            <a:ext cx="4643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交流：你了解哪些环保知识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944" name="Picture 3" descr=""/>
          <p:cNvPicPr/>
          <p:nvPr/>
        </p:nvPicPr>
        <p:blipFill>
          <a:blip r:embed="rId1"/>
          <a:stretch/>
        </p:blipFill>
        <p:spPr>
          <a:xfrm>
            <a:off x="1714680" y="1785960"/>
            <a:ext cx="55623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2"/>
          <p:cNvSpPr/>
          <p:nvPr/>
        </p:nvSpPr>
        <p:spPr>
          <a:xfrm>
            <a:off x="714240" y="785880"/>
            <a:ext cx="785844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我国高度重视保护野生动物，林业部门建立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个自然保护区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珍稀濒危野生动物得到了较好的保护。某自然保护区形状近似三角形，如下图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该自然保护区的面积大约是多少平方千米？合多少公顷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6" name="Rectangle 2"/>
          <p:cNvSpPr/>
          <p:nvPr/>
        </p:nvSpPr>
        <p:spPr>
          <a:xfrm>
            <a:off x="4286160" y="3000240"/>
            <a:ext cx="2643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0×120÷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7" name="Rectangle 2"/>
          <p:cNvSpPr/>
          <p:nvPr/>
        </p:nvSpPr>
        <p:spPr>
          <a:xfrm>
            <a:off x="3929040" y="350028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000÷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8" name="Rectangle 2"/>
          <p:cNvSpPr/>
          <p:nvPr/>
        </p:nvSpPr>
        <p:spPr>
          <a:xfrm>
            <a:off x="3929040" y="4000680"/>
            <a:ext cx="3571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平方千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9" name="Rectangle 2"/>
          <p:cNvSpPr/>
          <p:nvPr/>
        </p:nvSpPr>
        <p:spPr>
          <a:xfrm>
            <a:off x="3143160" y="4500720"/>
            <a:ext cx="542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方千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公顷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950" name="Picture 1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42960" y="3500280"/>
            <a:ext cx="2611440" cy="2571840"/>
          </a:xfrm>
          <a:prstGeom prst="rect">
            <a:avLst/>
          </a:prstGeom>
          <a:ln w="0">
            <a:noFill/>
          </a:ln>
        </p:spPr>
      </p:pic>
      <p:sp>
        <p:nvSpPr>
          <p:cNvPr id="951" name="Rectangle 2"/>
          <p:cNvSpPr/>
          <p:nvPr/>
        </p:nvSpPr>
        <p:spPr>
          <a:xfrm>
            <a:off x="3214800" y="5214960"/>
            <a:ext cx="5429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自然保护区的面积大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方千米，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公顷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矩形 6"/>
          <p:cNvSpPr/>
          <p:nvPr/>
        </p:nvSpPr>
        <p:spPr>
          <a:xfrm>
            <a:off x="1643040" y="1928880"/>
            <a:ext cx="5643720" cy="5000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53" name="Rectangle 2"/>
          <p:cNvSpPr/>
          <p:nvPr/>
        </p:nvSpPr>
        <p:spPr>
          <a:xfrm>
            <a:off x="571680" y="1143000"/>
            <a:ext cx="8001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定范围内生物个体的数量称为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种群密度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它的计算方法是：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群密度＝生物个体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位面积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动物学家在该自然保护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顷的范围发现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只梅花鹿。梅花鹿的种群密度是每公顷几只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54" name="Rectangle 2"/>
          <p:cNvSpPr/>
          <p:nvPr/>
        </p:nvSpPr>
        <p:spPr>
          <a:xfrm>
            <a:off x="2357280" y="3071880"/>
            <a:ext cx="4929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÷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只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公顷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55" name="Rectangle 2"/>
          <p:cNvSpPr/>
          <p:nvPr/>
        </p:nvSpPr>
        <p:spPr>
          <a:xfrm>
            <a:off x="1143000" y="3571920"/>
            <a:ext cx="6500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梅花鹿的种群密度是每公顷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只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2"/>
          <p:cNvSpPr/>
          <p:nvPr/>
        </p:nvSpPr>
        <p:spPr>
          <a:xfrm>
            <a:off x="428760" y="928800"/>
            <a:ext cx="86439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定范围内生物个体的数量称为种群密度计算方法是：种群密度＝生物个体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位面积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估计这个自然保护区内有多少只梅花鹿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57" name="Rectangle 2"/>
          <p:cNvSpPr/>
          <p:nvPr/>
        </p:nvSpPr>
        <p:spPr>
          <a:xfrm>
            <a:off x="1857240" y="3643200"/>
            <a:ext cx="4929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8×90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2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只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785880" y="4143240"/>
            <a:ext cx="7858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这个自然保护区内大约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2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只梅花鹿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59" name="Rectangle 2"/>
          <p:cNvSpPr/>
          <p:nvPr/>
        </p:nvSpPr>
        <p:spPr>
          <a:xfrm>
            <a:off x="1571760" y="2500200"/>
            <a:ext cx="5715000" cy="571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梅花鹿的种群密度是每公顷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只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1000080" y="3143160"/>
            <a:ext cx="685800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个自然保护区的面积大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公顷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428760" y="928800"/>
            <a:ext cx="86439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定范围内生物个体的数量称为种群密度计算方法是：种群密度＝生物个体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位面积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调查发现，这个自然保护区内红松的种密度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棵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顷。计算该自然保护区一共有多少棵红松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62" name="Rectangle 2"/>
          <p:cNvSpPr/>
          <p:nvPr/>
        </p:nvSpPr>
        <p:spPr>
          <a:xfrm>
            <a:off x="2071800" y="3071880"/>
            <a:ext cx="4929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9×90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610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只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63" name="Rectangle 2"/>
          <p:cNvSpPr/>
          <p:nvPr/>
        </p:nvSpPr>
        <p:spPr>
          <a:xfrm>
            <a:off x="1428840" y="3714840"/>
            <a:ext cx="7715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该自然保护区一共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610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棵红松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2"/>
          <p:cNvSpPr/>
          <p:nvPr/>
        </p:nvSpPr>
        <p:spPr>
          <a:xfrm>
            <a:off x="500040" y="928800"/>
            <a:ext cx="83581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从天空往下看，热带雨林的树木就像城市中高低不同的楼房。其中长着许多参天大树，高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它们的树干很粗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个成年人伸开双臂手拉手，刚刚能围住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层楼房的高度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计算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高的树相当于几层楼高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65" name="Rectangle 2"/>
          <p:cNvSpPr/>
          <p:nvPr/>
        </p:nvSpPr>
        <p:spPr>
          <a:xfrm>
            <a:off x="2571840" y="3643200"/>
            <a:ext cx="4929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÷3.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.87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层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66" name="Rectangle 2"/>
          <p:cNvSpPr/>
          <p:nvPr/>
        </p:nvSpPr>
        <p:spPr>
          <a:xfrm>
            <a:off x="2143080" y="4786200"/>
            <a:ext cx="6072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高的树相当于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层楼高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67" name="Rectangle 2"/>
          <p:cNvSpPr/>
          <p:nvPr/>
        </p:nvSpPr>
        <p:spPr>
          <a:xfrm>
            <a:off x="3857760" y="4214880"/>
            <a:ext cx="2071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层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2"/>
          <p:cNvSpPr/>
          <p:nvPr/>
        </p:nvSpPr>
        <p:spPr>
          <a:xfrm>
            <a:off x="785880" y="1000080"/>
            <a:ext cx="78580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平均每个成年人从左手中指尖到右手中指的距离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解释平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表示的意思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69" name="Rectangle 2"/>
          <p:cNvSpPr/>
          <p:nvPr/>
        </p:nvSpPr>
        <p:spPr>
          <a:xfrm>
            <a:off x="2786040" y="2286000"/>
            <a:ext cx="3071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是平均数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2"/>
          <p:cNvSpPr/>
          <p:nvPr/>
        </p:nvSpPr>
        <p:spPr>
          <a:xfrm>
            <a:off x="642960" y="1000080"/>
            <a:ext cx="80722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植物通过它们的叶子散失水分，一片叶子散失水分的多少一般与它的面积大小有关。下表显示了平均每天每平方厘米叶面散失的水分。（单位：毫克）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1833480" y="2494080"/>
          <a:ext cx="6096240" cy="10364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桉树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千层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橡树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悬铃木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2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72" name="Rectangle 2"/>
          <p:cNvSpPr/>
          <p:nvPr/>
        </p:nvSpPr>
        <p:spPr>
          <a:xfrm>
            <a:off x="714240" y="3565440"/>
            <a:ext cx="78584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把一片叶子做成标本粘在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米、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米的长方形纸上，叶子的面积大约是长方形纸面积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8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这片叶子的面积是多少平方分米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73" name="Rectangle 2"/>
          <p:cNvSpPr/>
          <p:nvPr/>
        </p:nvSpPr>
        <p:spPr>
          <a:xfrm>
            <a:off x="1714680" y="4857840"/>
            <a:ext cx="6215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8×0.6×68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326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平方分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74" name="Rectangle 2"/>
          <p:cNvSpPr/>
          <p:nvPr/>
        </p:nvSpPr>
        <p:spPr>
          <a:xfrm>
            <a:off x="1571760" y="5357880"/>
            <a:ext cx="6858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这片叶子的面积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326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方分米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6:19:28Z</dcterms:created>
  <dc:creator/>
  <dc:description/>
  <cp:keywords/>
  <dc:language>en-US</dc:language>
  <cp:lastModifiedBy/>
  <dcterms:modified xsi:type="dcterms:W3CDTF">2017-12-21T14:11:21Z</dcterms:modified>
  <cp:revision>1</cp:revision>
  <dc:subject/>
  <dc:title/>
</cp:coreProperties>
</file>